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C74-A1F0-4686-A82A-5EA32E47E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F15A-505E-4A08-93C2-C8CF8CE9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E49-43A3-40B4-A4BA-ED53E240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E54-7C5D-4915-AB01-1E9B66C1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C7D-A251-4C7F-B65E-BD2E7410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AC4-73A4-4B15-BF8E-DA8E4689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7EF-A24A-4ACC-9A26-2CC3473D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BBF-FC23-461C-8206-D1C1C671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B46-36AE-4DDD-B3D7-44B363B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911-C4B2-4F2E-8209-ECBC14CA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C84-7B82-4300-96F5-D98A8EAC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1F8-430C-4EB2-A8AF-B680B084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52C-4CB8-495C-A5B3-4BFEC996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C41-B64B-4E3C-BB7D-789FF5D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F5F-0F19-4DB4-B6A3-EAC408E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862-EDCA-457A-967A-AA1178B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CA4-49BA-4DCA-8C3F-FB386482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classro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03848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52680"/>
            <a:ext cx="16002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ith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ny Cannon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, Lynn, &amp; Justin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yann, Granddaugh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Multi-Dis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mentary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orsements Pre-K.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1055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y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6095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60958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m/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ning a wedding in eight week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 4,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2743200" y="55627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Hard work pays off, graduation 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Blessed with granddaughter, now a GiGi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Family , Friends ,Virginia ,Washing D.C. –Vacati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in boys are blessed brother, Justi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9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amily grows from 2 to 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8" descr="TTU.jpg"/>
          <p:cNvPicPr/>
          <p:nvPr/>
        </p:nvPicPr>
        <p:blipFill>
          <a:blip r:embed="rId4"/>
          <a:stretch/>
        </p:blipFill>
        <p:spPr>
          <a:xfrm>
            <a:off x="380880" y="609480"/>
            <a:ext cx="533520" cy="5335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6" name="Picture 53" descr="C:\Documents and Settings\Vanessa\My Documents\My Pictures\My Scans\Fall 2009.jpg"/>
          <p:cNvPicPr/>
          <p:nvPr/>
        </p:nvPicPr>
        <p:blipFill>
          <a:blip r:embed="rId5"/>
          <a:stretch/>
        </p:blipFill>
        <p:spPr>
          <a:xfrm>
            <a:off x="380880" y="1371600"/>
            <a:ext cx="99072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C:\Documents and Settings\Vanessa\My Documents\My Pictures\My Scans\Fall 2009.jpg"/>
          <p:cNvPicPr/>
          <p:nvPr/>
        </p:nvPicPr>
        <p:blipFill>
          <a:blip r:embed="rId6"/>
          <a:stretch/>
        </p:blipFill>
        <p:spPr>
          <a:xfrm>
            <a:off x="2057400" y="23623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C:\Documents and Settings\Vanessa\My Documents\My Pictures\My Scans\Fall 2009.jpg"/>
          <p:cNvPicPr/>
          <p:nvPr/>
        </p:nvPicPr>
        <p:blipFill>
          <a:blip r:embed="rId7"/>
          <a:stretch/>
        </p:blipFill>
        <p:spPr>
          <a:xfrm>
            <a:off x="2133720" y="38098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C:\Documents and Settings\Vanessa\My Documents\My Pictures\My Scans\Fall 2009.jpg"/>
          <p:cNvPicPr/>
          <p:nvPr/>
        </p:nvPicPr>
        <p:blipFill>
          <a:blip r:embed="rId8"/>
          <a:stretch/>
        </p:blipFill>
        <p:spPr>
          <a:xfrm>
            <a:off x="2133720" y="37339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C:\Documents and Settings\Vanessa\My Documents\My Pictures\My Scans\Fall 2009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C:\Documents and Settings\Vanessa\My Documents\My Pictures\My Scans\Fall 2009.jpg"/>
          <p:cNvPicPr/>
          <p:nvPr/>
        </p:nvPicPr>
        <p:blipFill>
          <a:blip r:embed="rId10"/>
          <a:stretch/>
        </p:blipFill>
        <p:spPr>
          <a:xfrm>
            <a:off x="2133720" y="5181480"/>
            <a:ext cx="457200" cy="644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C:\Documents and Settings\Vanessa\My Documents\My Pictures\My Scans\Fall 2009.jpg"/>
          <p:cNvPicPr/>
          <p:nvPr/>
        </p:nvPicPr>
        <p:blipFill>
          <a:blip r:embed="rId11"/>
          <a:stretch/>
        </p:blipFill>
        <p:spPr>
          <a:xfrm>
            <a:off x="2133720" y="594360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C:\Documents and Settings\Vanessa\My Documents\My Pictures\My Scans\Fall 2009.jpg"/>
          <p:cNvPicPr/>
          <p:nvPr/>
        </p:nvPicPr>
        <p:blipFill>
          <a:blip r:embed="rId12"/>
          <a:stretch/>
        </p:blipFill>
        <p:spPr>
          <a:xfrm>
            <a:off x="2133720" y="3048120"/>
            <a:ext cx="457200" cy="64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8" descr="C:\Documents and Settings\Vanessa\My Documents\My Pictures\vanessa\Lynn &amp; Cheyann 3 monthsw.jpg"/>
          <p:cNvPicPr/>
          <p:nvPr/>
        </p:nvPicPr>
        <p:blipFill>
          <a:blip r:embed="rId13"/>
          <a:stretch/>
        </p:blipFill>
        <p:spPr>
          <a:xfrm>
            <a:off x="152280" y="548640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C:\Documents and Settings\Vanessa\My Documents\My Pictures\vanessa\TeacherWeb Pics\ben.bmp"/>
          <p:cNvPicPr/>
          <p:nvPr/>
        </p:nvPicPr>
        <p:blipFill>
          <a:blip r:embed="rId14"/>
          <a:stretch/>
        </p:blipFill>
        <p:spPr>
          <a:xfrm>
            <a:off x="685800" y="5486400"/>
            <a:ext cx="4636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C:\Documents and Settings\Vanessa\My Documents\My Pictures\vanessa\TeacherWeb Pics\Justin and Kim.bmp"/>
          <p:cNvPicPr/>
          <p:nvPr/>
        </p:nvPicPr>
        <p:blipFill>
          <a:blip r:embed="rId15"/>
          <a:stretch/>
        </p:blipFill>
        <p:spPr>
          <a:xfrm>
            <a:off x="1295280" y="5562720"/>
            <a:ext cx="692280" cy="5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C:\Users\Vanessa\Pictures\West_Wizard.jpg"/>
          <p:cNvPicPr/>
          <p:nvPr/>
        </p:nvPicPr>
        <p:blipFill>
          <a:blip r:embed="rId16"/>
          <a:stretch/>
        </p:blipFill>
        <p:spPr>
          <a:xfrm>
            <a:off x="8229600" y="380880"/>
            <a:ext cx="914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nessa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152280" y="3048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152280" y="3276720"/>
            <a:ext cx="16002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ny Cannon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, Lynn, &amp; Justin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Multi-Displinary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mentary 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orsements Pre-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cMinn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enny Cannon, 26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Boy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en &amp; Lynn, Age 24, Justin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133720" y="3200400"/>
            <a:ext cx="4495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wimming, reading, professional development geek  (science/ math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), and spending time with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ding, Cooking, Traveling, Sh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hildren’s Songs, Church Songs, and Country Musi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”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weet Home Alabama , Pretty Woman, Titanic , and Happy Fe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y’s Anatomy, Desperate House Wives, Andy Griffin, &amp; Bon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nie B. Jones , Magic Tree House Series, Robert Munsch 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7"/>
          <p:cNvSpPr/>
          <p:nvPr/>
        </p:nvSpPr>
        <p:spPr>
          <a:xfrm>
            <a:off x="990720" y="5486400"/>
            <a:ext cx="8380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066680" y="60768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Gatlinbu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http://www.wikispaces.com/user/my/Prettywoman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(931) 473-3801 Ext. 1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lcannon21@students.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0" descr="TTU.jpg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609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5" name="Picture 44" descr="C:\Documents and Settings\Vanessa\My Documents\My Pictures\My Scans\Fall 2009.jpg"/>
          <p:cNvPicPr/>
          <p:nvPr/>
        </p:nvPicPr>
        <p:blipFill>
          <a:blip r:embed="rId2"/>
          <a:stretch/>
        </p:blipFill>
        <p:spPr>
          <a:xfrm>
            <a:off x="457200" y="1447920"/>
            <a:ext cx="826920" cy="11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5" descr="C:\Documents and Settings\Vanessa\My Documents\My Pictures\Easter Spring 2010\Easter Spring 2010 030.jpg"/>
          <p:cNvPicPr/>
          <p:nvPr/>
        </p:nvPicPr>
        <p:blipFill>
          <a:blip r:embed="rId3"/>
          <a:stretch/>
        </p:blipFill>
        <p:spPr>
          <a:xfrm>
            <a:off x="15228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6" descr="C:\Documents and Settings\Vanessa\My Documents\My Pictures\vanessa\Fall '07 Gatlingburg\B &amp; V Apple Barn '07.JPG"/>
          <p:cNvPicPr/>
          <p:nvPr/>
        </p:nvPicPr>
        <p:blipFill>
          <a:blip r:embed="rId4"/>
          <a:stretch/>
        </p:blipFill>
        <p:spPr>
          <a:xfrm>
            <a:off x="152280" y="5943600"/>
            <a:ext cx="8128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C:\Users\Vanessa\Pictures\West_Wizard.jpg"/>
          <p:cNvPicPr/>
          <p:nvPr/>
        </p:nvPicPr>
        <p:blipFill>
          <a:blip r:embed="rId5"/>
          <a:stretch/>
        </p:blipFill>
        <p:spPr>
          <a:xfrm>
            <a:off x="8197920" y="380880"/>
            <a:ext cx="946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3352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nessa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685800" y="1523880"/>
            <a:ext cx="19810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ann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762120" y="6172200"/>
            <a:ext cx="8380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p S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sh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057400" y="6095880"/>
            <a:ext cx="1295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 D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nessa Cann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integrate more technology into her classroo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4" descr="TTU.jpg"/>
          <p:cNvPicPr/>
          <p:nvPr/>
        </p:nvPicPr>
        <p:blipFill>
          <a:blip r:embed="rId1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1" name="Picture 36" descr="C:\Users\Vanessa\Pictures\Beautiful Memmie.jpg"/>
          <p:cNvPicPr/>
          <p:nvPr/>
        </p:nvPicPr>
        <p:blipFill>
          <a:blip r:embed="rId2"/>
          <a:stretch/>
        </p:blipFill>
        <p:spPr>
          <a:xfrm>
            <a:off x="2438280" y="34290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7" descr="C:\Users\Vanessa\Pictures\Bridget &amp; Dale Limo.jpg"/>
          <p:cNvPicPr/>
          <p:nvPr/>
        </p:nvPicPr>
        <p:blipFill>
          <a:blip r:embed="rId3"/>
          <a:stretch/>
        </p:blipFill>
        <p:spPr>
          <a:xfrm>
            <a:off x="3886200" y="3429000"/>
            <a:ext cx="1380960" cy="103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8" descr="C:\Users\Vanessa\Pictures\Cheyann and Justin.jpg"/>
          <p:cNvPicPr/>
          <p:nvPr/>
        </p:nvPicPr>
        <p:blipFill>
          <a:blip r:embed="rId4"/>
          <a:stretch/>
        </p:blipFill>
        <p:spPr>
          <a:xfrm>
            <a:off x="914400" y="34290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C:\Users\Vanessa\Pictures\Cheyann's New Tricycle.jpg"/>
          <p:cNvPicPr/>
          <p:nvPr/>
        </p:nvPicPr>
        <p:blipFill>
          <a:blip r:embed="rId5"/>
          <a:stretch/>
        </p:blipFill>
        <p:spPr>
          <a:xfrm>
            <a:off x="1066680" y="1828800"/>
            <a:ext cx="990720" cy="148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C:\Users\Vanessa\Pictures\My Big Sucker.jpg"/>
          <p:cNvPicPr/>
          <p:nvPr/>
        </p:nvPicPr>
        <p:blipFill>
          <a:blip r:embed="rId6"/>
          <a:stretch/>
        </p:blipFill>
        <p:spPr>
          <a:xfrm>
            <a:off x="2209680" y="18288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3" descr="C:\Documents and Settings\Vanessa\My Documents\My Pictures\Easter Spring 2010\Easter Spring 2010 059.jpg"/>
          <p:cNvPicPr/>
          <p:nvPr/>
        </p:nvPicPr>
        <p:blipFill>
          <a:blip r:embed="rId7"/>
          <a:stretch/>
        </p:blipFill>
        <p:spPr>
          <a:xfrm>
            <a:off x="3276720" y="19051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4" descr="C:\Documents and Settings\Vanessa\My Documents\My Pictures\vanessa\Vacation May 08\New Pictures 033.jpg"/>
          <p:cNvPicPr/>
          <p:nvPr/>
        </p:nvPicPr>
        <p:blipFill>
          <a:blip r:embed="rId8"/>
          <a:stretch/>
        </p:blipFill>
        <p:spPr>
          <a:xfrm>
            <a:off x="762120" y="5105520"/>
            <a:ext cx="787320" cy="104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C:\Documents and Settings\Vanessa\My Documents\My Pictures\vanessa\Vacation May 08\New Pictures 105.jpg"/>
          <p:cNvPicPr/>
          <p:nvPr/>
        </p:nvPicPr>
        <p:blipFill>
          <a:blip r:embed="rId9"/>
          <a:stretch/>
        </p:blipFill>
        <p:spPr>
          <a:xfrm>
            <a:off x="1905120" y="5029200"/>
            <a:ext cx="13208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" descr="Scanned Picture.jpg"/>
          <p:cNvPicPr/>
          <p:nvPr/>
        </p:nvPicPr>
        <p:blipFill>
          <a:blip r:embed="rId10"/>
          <a:srcRect l="46326" t="5123" r="1766" b="53394"/>
          <a:stretch/>
        </p:blipFill>
        <p:spPr>
          <a:xfrm>
            <a:off x="4648320" y="18288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C:\Documents and Settings\Vanessa\My Documents\My Pictures\vanessa\2007\2007 090.jpg"/>
          <p:cNvPicPr/>
          <p:nvPr/>
        </p:nvPicPr>
        <p:blipFill>
          <a:blip r:embed="rId11"/>
          <a:stretch/>
        </p:blipFill>
        <p:spPr>
          <a:xfrm>
            <a:off x="5486400" y="3352680"/>
            <a:ext cx="1473120" cy="1105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C:\Documents and Settings\Vanessa\My Documents\My Pictures\My Scans\Fall 2009.jpg"/>
          <p:cNvPicPr/>
          <p:nvPr/>
        </p:nvPicPr>
        <p:blipFill>
          <a:blip r:embed="rId12"/>
          <a:stretch/>
        </p:blipFill>
        <p:spPr>
          <a:xfrm>
            <a:off x="3657600" y="5105520"/>
            <a:ext cx="835200" cy="1177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5" descr="C:\Users\Vanessa\Pictures\West_Wizard.jpg"/>
          <p:cNvPicPr/>
          <p:nvPr/>
        </p:nvPicPr>
        <p:blipFill>
          <a:blip r:embed="rId13"/>
          <a:stretch/>
        </p:blipFill>
        <p:spPr>
          <a:xfrm>
            <a:off x="8256600" y="380880"/>
            <a:ext cx="887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Vanessa</cp:lastModifiedBy>
  <dcterms:modified xsi:type="dcterms:W3CDTF">2011-09-04T20:27:47Z</dcterms:modified>
  <cp:revision>46</cp:revision>
  <dc:subject/>
  <dc:title>Profile</dc:title>
</cp:coreProperties>
</file>